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265-C1AB-4FC3-BAAF-BAD51784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634-87EE-4B5F-8981-EDF3CFD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5E8-F989-4C43-A808-403C3DA0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9F4-9821-440C-94FF-3CDC8144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10A-7CF4-4D98-810B-B946F854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0B7-4EF7-49E7-ADD9-3DF3A94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71D-AAB5-4520-AD8F-0A56623A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B52-2CAE-4C10-B03B-2E16F234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C58-BC23-4682-86C7-C691EDCD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AC6-E96C-4498-973C-A769F22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8B6-AE9E-4A62-897C-634A9802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4DF-D7BC-4E47-9CB7-BD41CDEF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B881-C196-43BA-9C23-18371A7C0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36600" y="66996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2f5597"/>
                </a:solidFill>
                <a:uFillTx/>
                <a:latin typeface="Calibri"/>
              </a:rPr>
              <a:t>Вычисли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extBox 2" descr=""/>
          <p:cNvPicPr/>
          <p:nvPr/>
        </p:nvPicPr>
        <p:blipFill>
          <a:blip r:embed="rId1"/>
          <a:stretch/>
        </p:blipFill>
        <p:spPr>
          <a:xfrm>
            <a:off x="1133640" y="1560600"/>
            <a:ext cx="1139760" cy="7063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1133640" y="2457360"/>
            <a:ext cx="138420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1060560" y="3346560"/>
            <a:ext cx="2597040" cy="69516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7" descr=""/>
          <p:cNvPicPr/>
          <p:nvPr/>
        </p:nvPicPr>
        <p:blipFill>
          <a:blip r:embed="rId4"/>
          <a:stretch/>
        </p:blipFill>
        <p:spPr>
          <a:xfrm>
            <a:off x="4932360" y="1573200"/>
            <a:ext cx="2327400" cy="6890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8" descr=""/>
          <p:cNvPicPr/>
          <p:nvPr/>
        </p:nvPicPr>
        <p:blipFill>
          <a:blip r:embed="rId5"/>
          <a:stretch/>
        </p:blipFill>
        <p:spPr>
          <a:xfrm>
            <a:off x="4932360" y="2462040"/>
            <a:ext cx="232740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9" descr=""/>
          <p:cNvPicPr/>
          <p:nvPr/>
        </p:nvPicPr>
        <p:blipFill>
          <a:blip r:embed="rId6"/>
          <a:stretch/>
        </p:blipFill>
        <p:spPr>
          <a:xfrm>
            <a:off x="4883040" y="3346560"/>
            <a:ext cx="3273480" cy="68904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0" descr=""/>
          <p:cNvPicPr/>
          <p:nvPr/>
        </p:nvPicPr>
        <p:blipFill>
          <a:blip r:embed="rId7"/>
          <a:stretch/>
        </p:blipFill>
        <p:spPr>
          <a:xfrm>
            <a:off x="1073160" y="4237200"/>
            <a:ext cx="2590920" cy="6886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1" descr=""/>
          <p:cNvPicPr/>
          <p:nvPr/>
        </p:nvPicPr>
        <p:blipFill>
          <a:blip r:embed="rId8"/>
          <a:stretch/>
        </p:blipFill>
        <p:spPr>
          <a:xfrm>
            <a:off x="4956120" y="4230720"/>
            <a:ext cx="2322720" cy="6890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2" descr=""/>
          <p:cNvPicPr/>
          <p:nvPr/>
        </p:nvPicPr>
        <p:blipFill>
          <a:blip r:embed="rId9"/>
          <a:stretch/>
        </p:blipFill>
        <p:spPr>
          <a:xfrm>
            <a:off x="3340080" y="5114880"/>
            <a:ext cx="23223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773280" y="15289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ронза состоит из 3 частей олова и 17 частей меди. Сколько олова в бронзовой детали массой 660 г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541680" y="438120"/>
            <a:ext cx="24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73280" y="376884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месь, состоящая из 3 частей цейлонского чая и 4 частей индийского чая, имеет массу 210 г. Сколько граммов цейлонского чая в этой смес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968400" y="104292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ариант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990720" y="3303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ариант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rcRect l="15979" t="5300" r="5473" b="8187"/>
          <a:stretch/>
        </p:blipFill>
        <p:spPr>
          <a:xfrm rot="17451600">
            <a:off x="7490880" y="2441520"/>
            <a:ext cx="968400" cy="850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2"/>
          <a:srcRect l="4822" t="3790" r="2475" b="8631"/>
          <a:stretch/>
        </p:blipFill>
        <p:spPr>
          <a:xfrm rot="14177400">
            <a:off x="6462720" y="2560680"/>
            <a:ext cx="105408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3"/>
          <a:stretch/>
        </p:blipFill>
        <p:spPr>
          <a:xfrm>
            <a:off x="3187800" y="5391000"/>
            <a:ext cx="1130040" cy="787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"/>
          <p:cNvPicPr/>
          <p:nvPr/>
        </p:nvPicPr>
        <p:blipFill>
          <a:blip r:embed="rId4"/>
          <a:srcRect l="14527" t="3313" r="14355" b="2761"/>
          <a:stretch/>
        </p:blipFill>
        <p:spPr>
          <a:xfrm>
            <a:off x="4137120" y="5218200"/>
            <a:ext cx="7426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73280" y="1308240"/>
            <a:ext cx="7772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иготовления кофейного напитка берут 7 частей кофе, 6 частей цикория, 5 частей желудей, 2 части каштанов. Сколько граммов кофе, цикория, желудей и каштанов потребуется для приготовления 800 г кофейного напит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521160" y="601560"/>
            <a:ext cx="24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4870440" y="4051440"/>
            <a:ext cx="3605400" cy="2139840"/>
            <a:chOff x="4870440" y="4051440"/>
            <a:chExt cx="3605400" cy="2139840"/>
          </a:xfrm>
        </p:grpSpPr>
        <p:pic>
          <p:nvPicPr>
            <p:cNvPr id="63" name="Рисунок 1" descr=""/>
            <p:cNvPicPr/>
            <p:nvPr/>
          </p:nvPicPr>
          <p:blipFill>
            <a:blip r:embed="rId1"/>
            <a:srcRect l="3851" t="2929" r="0" b="1228"/>
            <a:stretch/>
          </p:blipFill>
          <p:spPr>
            <a:xfrm>
              <a:off x="6368040" y="5062680"/>
              <a:ext cx="150984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3" descr=""/>
            <p:cNvPicPr/>
            <p:nvPr/>
          </p:nvPicPr>
          <p:blipFill>
            <a:blip r:embed="rId2"/>
            <a:srcRect l="1650" t="9234" r="0" b="18531"/>
            <a:stretch/>
          </p:blipFill>
          <p:spPr>
            <a:xfrm>
              <a:off x="4870440" y="4940640"/>
              <a:ext cx="1656720" cy="121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4" descr=""/>
            <p:cNvPicPr/>
            <p:nvPr/>
          </p:nvPicPr>
          <p:blipFill>
            <a:blip r:embed="rId3"/>
            <a:srcRect l="4491" t="23351" r="43947" b="11869"/>
            <a:stretch/>
          </p:blipFill>
          <p:spPr>
            <a:xfrm>
              <a:off x="5469480" y="4051440"/>
              <a:ext cx="1508760" cy="12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Рисунок 5" descr=""/>
            <p:cNvPicPr/>
            <p:nvPr/>
          </p:nvPicPr>
          <p:blipFill>
            <a:blip r:embed="rId4"/>
            <a:srcRect l="6285" t="24198" r="9694" b="22392"/>
            <a:stretch/>
          </p:blipFill>
          <p:spPr>
            <a:xfrm>
              <a:off x="6833520" y="4161960"/>
              <a:ext cx="1642320" cy="104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Рисунок 7" descr=""/>
          <p:cNvPicPr/>
          <p:nvPr/>
        </p:nvPicPr>
        <p:blipFill>
          <a:blip r:embed="rId5"/>
          <a:stretch/>
        </p:blipFill>
        <p:spPr>
          <a:xfrm>
            <a:off x="770040" y="4780080"/>
            <a:ext cx="2046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1:23:33Z</dcterms:created>
  <dc:creator>Anatol</dc:creator>
  <dc:description/>
  <dc:language>en-US</dc:language>
  <cp:lastModifiedBy>Пользователь Windows</cp:lastModifiedBy>
  <dcterms:modified xsi:type="dcterms:W3CDTF">2021-02-28T18:21:49Z</dcterms:modified>
  <cp:revision>95</cp:revision>
  <dc:subject/>
  <dc:title>Презентация PowerPoint</dc:title>
</cp:coreProperties>
</file>